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F7C2-DB9C-44AE-A739-877BDE00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7A38-BAA6-4821-BC3C-B19A0242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C77-3DF9-4B4A-AD93-21E9F4DC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CFB-71BE-4640-9775-FF9BC02B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1358-8F3E-4E4E-BDBB-41BB03AA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BA20-6AF3-4D1D-BDF7-24AEA5A4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BC28-5BEB-4316-9AB1-CFB0F8A7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94DD-7F28-40A9-B557-CAA42338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C93C-FB4D-400D-B675-3DAA6B10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9E3F-5809-4B25-BF83-9E50CA1F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309B-A4B9-4AF0-A38B-8E2ACC51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F56-52B1-41A9-B1D1-9AE9EEFF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9F92-47D0-4F4E-8C68-21D3370D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6A75-B6C5-4EA7-B745-6F1F0306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B4DB-A0FB-4BCF-93C9-5F098C58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71DD-BF39-45A9-9622-8ECCBFBE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5DBD-2363-4A95-8E57-E32370C8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CE08-037B-4F92-BEB3-48891284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A4E-494D-4913-BFB3-C2CC2240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62DD-2C9C-4A78-8185-A1EA53E0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976-AD7F-4243-BA5B-944CD799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C82-AB86-454F-B098-A4C1899C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39D-C1B5-4AB9-A72D-2DC5A915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FB9-2BE4-4937-A4CF-0563630D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EC0E-5EF0-42B9-AD81-4623A7192206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E75E-EDB8-4063-9348-3EBFABEB0824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Eastern Campaign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3886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are not using the army, I should like to borrow it for a short while.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resident Lincol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George B. McClella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st Point Graduate (184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 recruiter &amp; tra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kname:  Little Mac or Young Napo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l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verestim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rength of opposing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he Peninsula Campaign (1862)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Take Richm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cClellan moves more than 100,000 men via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to outflank the Confede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ty:  McClellan slow to move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Yorktown &amp; Seven Pines (1862)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Clellan chose to lay siege to Yorktown, causes disagreement with Lincol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 General Joseph E. Johnston decides to attack McClella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vent him from reaching Richmo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ston wounded…later replaced by Robert E. L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e ordered a halt to fighting.  (Why is this a smart move by Lee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even Days</a:t>
            </a:r>
            <a:r>
              <a:rPr b="0" i="1" lang="ja-JP" sz="4000" spc="-1" strike="noStrike">
                <a:solidFill>
                  <a:srgbClr val="482400"/>
                </a:solidFill>
                <a:latin typeface="Times New Roman"/>
              </a:rPr>
              <a:t>’</a:t>
            </a: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 Campaign (June 25</a:t>
            </a:r>
            <a:r>
              <a:rPr b="0" i="1" lang="en-US" sz="4000" spc="-1" strike="noStrike" baseline="30000">
                <a:solidFill>
                  <a:srgbClr val="482400"/>
                </a:solidFill>
                <a:latin typeface="Times New Roman"/>
              </a:rPr>
              <a:t>th</a:t>
            </a: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 to July 1</a:t>
            </a:r>
            <a:r>
              <a:rPr b="0" i="1" lang="en-US" sz="4000" spc="-1" strike="noStrike" baseline="30000">
                <a:solidFill>
                  <a:srgbClr val="482400"/>
                </a:solidFill>
                <a:latin typeface="Times New Roman"/>
              </a:rPr>
              <a:t>st</a:t>
            </a: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 1862)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e sent Jeb Stuart to scout McClellan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rmy and position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ares Little Ma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e forces McClellan to retr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coln removes McClellan as top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regains momentum in the Eastern Th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18:57Z</dcterms:created>
  <dc:creator>Robert G. Finkbeiner</dc:creator>
  <dc:description/>
  <dc:language>en-US</dc:language>
  <cp:lastModifiedBy>nate</cp:lastModifiedBy>
  <dcterms:modified xsi:type="dcterms:W3CDTF">2014-01-10T14:22:11Z</dcterms:modified>
  <cp:revision>32</cp:revision>
  <dc:subject/>
  <dc:title>Eastern Campaigns</dc:title>
</cp:coreProperties>
</file>